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my Ow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Bud John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Lord God Almight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Father, gracious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so blest to be your children, gracious Fa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Father, gracious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precious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so glad that you've redeemed us, precious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preciou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Holy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anew, Holy Spir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18:32Z</dcterms:modified>
  <cp:revision>9</cp:revision>
  <dc:subject/>
  <dc:title>Give Thanks</dc:title>
</cp:coreProperties>
</file>