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Draw Me Clos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5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ick Founds (James 4:8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0 Maranatha Praise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draw me close, closer, Lord,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world around me fade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draw me close, closer, Lord,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desire to worship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be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5T05:42:01Z</dcterms:modified>
  <cp:revision>14</cp:revision>
  <dc:subject/>
  <dc:title>I Am the God That Healeth Thee</dc:title>
</cp:coreProperties>
</file>