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W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’ve shone y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ow they live and where they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indful women, caring 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our gratitud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 love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faith increased the Savior’s f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ng your songs and shared your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our gratitude good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 named your w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ed the kingdom coming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elfless protest, prayer, and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the gratitude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ll whose will or name o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lects the grace of heaven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unacclaimed by earthly pow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fe through theirs has hallowed 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17:10Z</dcterms:modified>
  <cp:revision>52</cp:revision>
  <dc:subject/>
  <dc:title>Walk With Me</dc:title>
</cp:coreProperties>
</file>