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ut to the Lord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7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Darlene Zschec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3 Darlene Zschech/Hillsong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ut to the Lord, all the earth, let us s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wer and majesty, praise to the K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untains bow down and the seas will roar at the sound of your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ing for joy at the work of your hand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ever I'll love you, forever I'll st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compares to the promises I have in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6-09T14:07:22Z</dcterms:modified>
  <cp:revision>33</cp:revision>
  <dc:subject/>
  <dc:title>A Shield About Me</dc:title>
</cp:coreProperties>
</file>