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Worth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4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Pauline Michael Mills (Rev. 4:1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Fred Bock Music Co.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worthy, thou art worthy, thou art worthy, O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receive glory, glory and honor, glory and honor and pow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u hast created, has all things created; thou hast created all th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or thy pleasure they are created; thou art worthy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9:5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4T00:24:36Z</dcterms:modified>
  <cp:revision>11</cp:revision>
  <dc:subject/>
  <dc:title>Give Thanks</dc:title>
</cp:coreProperties>
</file>