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33412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ight the Advent Candle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FWS 2090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Mary Lu Walker (Luke 2:1-20)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©1975 Mary Lu Walker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7952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ight the Christmas candles, now: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ing of donkey, sheep, and cow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irthday candles for the King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et the alleluias ring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779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andle, candle, burning bright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79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hining in the cold winter night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79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andle, candle burning bright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79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ill our hearts with Christmas light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7952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ight the Advent candle, one: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ow the waiting has begun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have started on our way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ime to think of Christmas day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779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andle, candle, burning bright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79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hining in the cold winter night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79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andle, candle burning bright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79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ill our hearts with Christmas light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779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ight the Advent candle, two: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79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ink of humble shepherds, who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79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illed with wonder at the sigh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79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f the child of Christmas night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779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andle, candle, burning bright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79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hining in the cold winter night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79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andle, candle burning bright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79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ill our hearts with Christmas light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7952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ight the Advent candle, three: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ink of heavenly harmony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gels singing "Peace on earth"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t the blessed Savior's birth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779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andle, candle, burning bright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79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hining in the cold winter night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79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andle, candle burning bright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79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ill our hearts with Christmas light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7952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ight the Advent candle, four: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ink of joy forevermore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hrist Child in a stable born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ift of love that Christmas morn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779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andle, candle, burning bright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79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hining in the cold winter night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79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andle, candle burning bright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79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ill our hearts with Christmas light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26T20:29:32Z</dcterms:created>
  <dc:creator>Gary Wintergerst</dc:creator>
  <dc:description/>
  <dc:language>en-US</dc:language>
  <cp:lastModifiedBy>Gary Wintergerst</cp:lastModifiedBy>
  <cp:lastPrinted>1995-07-02T14:48:50Z</cp:lastPrinted>
  <dcterms:modified xsi:type="dcterms:W3CDTF">2001-02-12T23:28:16Z</dcterms:modified>
  <cp:revision>47</cp:revision>
  <dc:subject/>
  <dc:title>A Shield About Me</dc:title>
</cp:coreProperties>
</file>