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W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ordon L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Common Cup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gentle girl in Galilee, a gentle breeze she c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hisper softly calling in the dar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mise of a child of peace whose reign would never 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y sang the Spirit song within her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ying to the river, she waited circling hi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child now grown so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rose up from the water, she swept down from the sk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e carried him awa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r emb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after the deep darkness that fell up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fter dawn returned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ame of rising s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touched the earth again, again her wings unfurl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life in wind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e as she flew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waters rocking on the morning or our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n empty cradle waiting to be fil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heart of God the Spirit moved upon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other breathing life into her chi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were the dreamers whose eyes were given s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pirit filled their dreams with fo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erts turned to gardens, broken hearts found de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down the ag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she flew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23:53:00Z</dcterms:modified>
  <cp:revision>84</cp:revision>
  <dc:subject/>
  <dc:title>A Shield About Me</dc:title>
</cp:coreProperties>
</file>