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odness Is Stronger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 Evi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1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79f"/>
                </a:solidFill>
                <a:latin typeface="Arial"/>
              </a:rPr>
              <a:t>An African Prayer Boo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5 Desmond Tutu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odness is stronger than evil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is stronger than hat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is stronger than darknes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is stronger than dea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ictory is ours, victory is our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him who loved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4-06T01:54:57Z</dcterms:modified>
  <cp:revision>23</cp:revision>
  <dc:subject/>
  <dc:title>In His Time</dc:title>
</cp:coreProperties>
</file>