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ep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William Billings (John 11:3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ept, the falling t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ercy flowed beyond all bound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groaned, a trembling f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ized all the guilty world ar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7T22:34:53Z</dcterms:modified>
  <cp:revision>64</cp:revision>
  <dc:subject/>
  <dc:title>A Shield About Me</dc:title>
</cp:coreProperties>
</file>