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the Spirit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Lord I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19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Stephen R. Adam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73 Pilot Point Musi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the Spirit of the Lord is, there is peac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the Spirit of the Lord is, there is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comfort in life's darkest hour; there i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ght and lif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help and power in the Spiri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Spirit of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9T18:22:11Z</dcterms:modified>
  <cp:revision>80</cp:revision>
  <dc:subject/>
  <dc:title>A Shield About Me</dc:title>
</cp:coreProperties>
</file>