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day's Palms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dnesday's As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ae E. Whitn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day's palms are Wednesday's ashes as another Lent begin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 kneel before our Maker in contrition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marred baptismal pledges, in rebelli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ne astr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returning, seek forgiveness; grant us pardon, God, this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failed to love our neighbors, their offences to forg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not listened to their troubles, nor have cared just how they 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jealous, proud, impatient, loving over much our thing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yielding of our failings be our Lenten offer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asty to judge others, blind to proof of human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ack of under-standing demonstrates our inner gr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wasted earth's resources; want and suffering we've ignor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cleanse us, then restore us; make new hearts within u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3:43:52Z</dcterms:modified>
  <cp:revision>102</cp:revision>
  <dc:subject/>
  <dc:title>A Shield About Me</dc:title>
</cp:coreProperties>
</file>