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thy Town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 rode into Jerusalem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ll the people sang their praise to him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Came to town upon a donkey's back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eemed so lowly but he's Lord </a:t>
            </a:r>
            <a:br>
              <a:rPr sz="4400"/>
            </a:b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fac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ear the people say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today.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a faithful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it all night l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Everybody brought their hopes and dream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ife just isn't always what it seem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Need somebody who can help us b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iberated from captivity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ear the people say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today.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a faithful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it all night l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ear the people say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today.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a faithful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it all night l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03:33:03Z</dcterms:modified>
  <cp:revision>68</cp:revision>
  <dc:subject/>
  <dc:title>A Shield About Me</dc:title>
</cp:coreProperties>
</file>