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in Wat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Saward (Rom. 6:3-5) Jubilate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ym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Hope Publish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in water, sea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d by the blood of Christ, our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irs of salvation, trusting his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ly now God’s praises we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in water, sea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d in the tomb with Christ, our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his rising, freed and for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fully now God’s praises we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in water, sea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ked with the sign of Christ, our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one Father, we are his childr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now God’s praises we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2-06-19T03:17:03Z</dcterms:modified>
  <cp:revision>15</cp:revision>
  <dc:subject/>
  <dc:title>Walk With Me</dc:title>
</cp:coreProperties>
</file>