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le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mes K. Manl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8 James K. Manl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own in the city you called once ag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you blew through your people on the rush of the w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gentle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 through the wilderness calling and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restlessness, stir me from placi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d, Wind on the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call from tomorrow, you break ancient schem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bondage of sorrow the captives dream dream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women see visions, our men clear their ey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bold new decisions your people ar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gentle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 through the wilderness calling and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restlessness, stir me from placi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d, Wind on the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gentle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 through the wilderness calling and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restlessness, stir me from placi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d, Wind on the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moved on the waters, you called to the deep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you coaxed up the mountains from the valleys of sleep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ver the eons you called to each th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ke from your slumbers and rise on your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gentle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 through the wilderness calling and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restlessness, stir me from placi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d, Wind on the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wept through the desert, you stung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 goaded your people with a law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an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they were blinded with their idols and l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you spoke through prophets to open their ey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gentle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 through the wilderness calling and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restlessness, stir me from placi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d, Wind on the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ang in a stable, you cried from a hi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you whispered in silence when the whole world was sti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9T18:33:33Z</dcterms:modified>
  <cp:revision>81</cp:revision>
  <dc:subject/>
  <dc:title>A Shield About Me</dc:title>
</cp:coreProperties>
</file>