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s of the Peopl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M Hymnal (Matt. 6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UM Publishing Ho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 church universal--its leaders, 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ts members, and its mission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communion of saint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people of this gathering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ose who suffer and those in troubl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concerns of this local community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 world, its people, and its leader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6T15:11:27Z</dcterms:modified>
  <cp:revision>56</cp:revision>
  <dc:subject/>
  <dc:title>I Am the God That Healeth Thee</dc:title>
</cp:coreProperties>
</file>