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laims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anley M. Far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Stanley M. Far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is day do all ag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ild of God you’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family love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, we vow to help your faith to g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to say this day that we will help you on your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you should tire 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then we will sing this lulla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48:33Z</dcterms:modified>
  <cp:revision>15</cp:revision>
  <dc:subject/>
  <dc:title>Walk With Me</dc:title>
</cp:coreProperties>
</file>