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’s Pray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im Strathdee (Matt. 6:9-1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7 Desert Flower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Our Father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ther in heav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kingdom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earth as in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o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daily bre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our si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forgive tho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in against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 from the 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ria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eliver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i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For the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dom, and the power, and the glory are yours, for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kingdom, and the power, and the glory are yours, for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, and 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ther in heav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2:48:18Z</dcterms:modified>
  <cp:revision>47</cp:revision>
  <dc:subject/>
  <dc:title>Walk With Me</dc:title>
</cp:coreProperties>
</file>