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lizabeth Good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New Spring Publ.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, O Lord,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, O Lord,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come to you today with a simple prayer to pra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thing I do, let my life, O Lord,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, O Lord,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[Leader]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Arial"/>
              </a:rPr>
              <a:t>Lord, You’ve formed me out of clay, for your glory I was ma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Arial"/>
              </a:rPr>
              <a:t>Use this vessel as you choose. Let my Life, O Lord,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, O Lord,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3-06-28T17:01:40Z</dcterms:modified>
  <cp:revision>11</cp:revision>
  <dc:subject/>
  <dc:title>A Shield About Me</dc:title>
</cp:coreProperties>
</file>