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M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rry D. Clark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5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my heart,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into my heart, Lord Jes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in today, come in to st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into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my heart, out of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ut of my heart, Lord Jes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ut today, shine out alw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ut of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05T05:42:55Z</dcterms:modified>
  <cp:revision>13</cp:revision>
  <dc:subject/>
  <dc:title>A Shield About Me</dc:title>
</cp:coreProperties>
</file>