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in the Day-to-Day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4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hn Thornbur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9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in the day-to-day, among the “A” through “Z,”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world of miracles which God calls u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alace has its place, museums play their par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children’s  simpl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ndmade gifts are precious, Godly 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urgeon sews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t, the plumber tends the leak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ho can match the loving kiss upon a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r-stained cheek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excavating God unearths new hope each d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rusts the miracle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to us, the soul-filled cl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25T02:57:06Z</dcterms:modified>
  <cp:revision>11</cp:revision>
  <dc:subject/>
  <dc:title>Walk With Me</dc:title>
</cp:coreProperties>
</file>