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ly Spirit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ot of Li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ean Janz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ly Spirit, Root of l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, cleanser of all thing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oint our wounds, awaken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lustrous movement of your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Vigor, saving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free us by your living W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oming flesh to wear our p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creation is resto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ly wisdom, soaring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compass us with wings unfurl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rry us, encircling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, below, and through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9T18:39:10Z</dcterms:modified>
  <cp:revision>82</cp:revision>
  <dc:subject/>
  <dc:title>A Shield About Me</dc:title>
</cp:coreProperties>
</file>