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Se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Kyrie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ilyn Houser Ham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4 Marilyn Houser Ham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ome and see, come and see, I am the way and the truth,"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ollow me, follow me, come as a child, O come and se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, K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e, Christe, Christe eleis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e, Christe, adoramus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K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2T05:02:07Z</dcterms:modified>
  <cp:revision>89</cp:revision>
  <dc:subject/>
  <dc:title>A Shield About Me</dc:title>
</cp:coreProperties>
</file>