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k Forem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Mercy/Vinyard Publish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 call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 calling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ive your gif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ring your tru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our gu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walk be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Descant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 call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 call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 calling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 call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 call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 calling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dify your churc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our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int the way, come walk be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2T04:47:00Z</dcterms:modified>
  <cp:revision>87</cp:revision>
  <dc:subject/>
  <dc:title>A Shield About Me</dc:title>
</cp:coreProperties>
</file>