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Brea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W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aham Kendri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Make 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bread, here is wi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: H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e bread; taste the wi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grace, here is pe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: H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his grace; find his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st on Jes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d there is heal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cup there’s lif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moment by the Spirit Christ is with 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are, joined in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:  H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ll proclaim till he comes Jesus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d there is heal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cup there’s lif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moment by the Spirit Christ is with 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4:44:58Z</dcterms:modified>
  <cp:revision>34</cp:revision>
  <dc:subject/>
  <dc:title>Walk With Me</dc:title>
</cp:coreProperties>
</file>