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, Jesus, Shin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raham Kendrick (2 Cor. 4: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7 Make Way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, Jesus,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this land with the Father's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aze, Spirit, blaz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our hearts on fi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, river, f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od the nations with grace and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forth your word, Lord, and let there be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gaze on your kingly bright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our faces display your likenes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changing from glor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rored here may our lives tell your st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on me, shine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, Jesus,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this land with the Father's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aze, Spirit, blaz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our hearts on fi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, river, f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od the nations with grace and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forth your word, Lord, and let there be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, Jesus,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this land with the Father's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aze, Spirit, blaz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our hearts on fi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, river, f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od the nations with grace and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forth your word, Lord, and let there be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the light of your love is shi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the darkness shin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Light of the World, shine upon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us free by the truth you now bring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on me, shine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, Jesus,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this land with the Father's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aze, Spirit, blaz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our hearts on fi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, river, f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od the nations with grace and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forth your word, Lord, and let there be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come to your awesome presen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shadows into your radian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blood I may enter your bright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rch me, try me, consume all my dark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on me, shine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9T05:17:02Z</dcterms:modified>
  <cp:revision>26</cp:revision>
  <dc:subject/>
  <dc:title>I Am the God That Healeth Thee</dc:title>
</cp:coreProperties>
</file>