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Uyai Mose)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lexander Gon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worship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 zvin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namate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 zvin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namate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worship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1:28:11Z</dcterms:modified>
  <cp:revision>43</cp:revision>
  <dc:subject/>
  <dc:title>Walk With Me</dc:title>
</cp:coreProperties>
</file>