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b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 (John 1:14; 20:19-2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b of life, and source of b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me of every restless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arms the worlds awaken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loved us from the st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your children, gather 'round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table you prep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ing stories, tears, and laugh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urtured by y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in flesh, our brother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bring us second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come to stand besi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ing weakness, knowing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iest who shares our human struggl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of Life, and Death of D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n Christ, come stand among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the Spirit by your br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oding Spirit, move among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partner, be our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memory fails, remind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we are, what we int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bor with us, aid the birth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new world yet to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of servant, Lord, and m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for love and u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, Brother, Holy Partn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Spirit, Only So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praise your name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-in-three and Three-in-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hare your life, your pass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your word of world made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singing, ever prai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all, and on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3:57:22Z</dcterms:modified>
  <cp:revision>15</cp:revision>
  <dc:subject/>
  <dc:title>Give Thanks</dc:title>
</cp:coreProperties>
</file>