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ep in the Shadows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Pa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4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rian Wr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5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ep in the shadows of the past, far out from settled land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 nomads travel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ir God across the desert san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wning hope of humankind by them was sensed and show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romise calling them ahead, a future yet un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others bowed to changeless gods the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t a myste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visible, without a name: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I AM WHAT I WILL BE”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y their tents, around their fires, in story, song and la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praised, remembered, handed on a past that promised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xodus to Pentecost the promise changed and gr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some, remembering the past, recorded what they k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with their letters and laments, their prophecy and pra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overed, kindled and expressed new hope for changing day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e writings that survived, for leader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g ag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sifted, copied, and preserved the Bible that we kn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, and find its story yet our promise, strength and c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odel of emergi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, alive with hop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25T03:06:50Z</dcterms:modified>
  <cp:revision>12</cp:revision>
  <dc:subject/>
  <dc:title>Walk With Me</dc:title>
</cp:coreProperties>
</file>