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Song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4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Handt Hans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6 Changing Church Foru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song of joy i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is a gift from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song of joy i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is a gift from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is a gift from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song of love i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is a gift from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song of love i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is a gift from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is a gift from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song of peace i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ace is a gift from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song of peace i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ace is a gift from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ace is a gift from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song of faith i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is a gift from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song of faith i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is a gift from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is a gift from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song of Hope i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is a gift from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song of hope i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is a gift from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is a gift from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27T04:11:05Z</dcterms:modified>
  <cp:revision>105</cp:revision>
  <dc:subject/>
  <dc:title>A Shield About Me</dc:title>
</cp:coreProperties>
</file>