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eg Nelson and Phil McHu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River Oaks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, people need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nd of broke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ams, he's the open d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, people need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ll we realize people need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48:44Z</dcterms:modified>
  <cp:revision>10</cp:revision>
  <dc:subject/>
  <dc:title>Walk With Me</dc:title>
</cp:coreProperties>
</file>