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er, River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Gr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5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homas H. Troeg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Oxford University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er, River, Spirit, Gr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p ove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p over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-carve the depths your fingers trac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sculpting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sculpting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er, River, Spirit, Gr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p ove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p over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-carve the depths your fingers trac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sculpting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sculpting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4-04T04:52:22Z</dcterms:modified>
  <cp:revision>19</cp:revision>
  <dc:subject/>
  <dc:title>Walk With Me</dc:title>
</cp:coreProperties>
</file>