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b Gillman (Col. 3:1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Kingway's Thank You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rds that canno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brok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bind us together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ly one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ly one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ly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s why w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rds that canno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brok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bind us together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49:03Z</dcterms:modified>
  <cp:revision>36</cp:revision>
  <dc:subject/>
  <dc:title>In His Time</dc:title>
</cp:coreProperties>
</file>