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d's Peopl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yan Jeffery Lea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Fred Bock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d's people, the chosen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the Spirit, established by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rnerstone is Christ alone, and strong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e sta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live transparently and walk heart to heart and hand in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d's loved ones, the Bride of Christ,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have known it, the love of God out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learn how to return the gift of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giv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share each joy and care and live with a zeal that pleases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which the Lord is H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obey Christ, now risen from the d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s us be a family diverse, yet truly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give our gifts to God and so shall God's work on earth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a temple,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's dwelling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ed in great weaknes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up to hold God'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ie alone, for on its own each ember loses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joined in one the flame burns on to give warmth and light and to insp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59:03Z</dcterms:modified>
  <cp:revision>23</cp:revision>
  <dc:subject/>
  <dc:title>In His Time</dc:title>
</cp:coreProperties>
</file>