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arr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ivilla Mart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 (I'm happy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I'm free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eye is on the spa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he watches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I feel discouraged? Why should the shadows co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my heart be lonely and long f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h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is my portion? My constant friend is h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 (I'm happy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I'm free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eye is on the spa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he watches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t your heart be troubled,” his tend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I h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sting on his goodness, I lose my doubts and fear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by the path he leadeth but one step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s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 (I'm happy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I'm free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eye is on the spa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he watches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ever I am tempted, whenever clouds ar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song gives place to sighing, when hop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me d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raw the closer to him, from care he sets me fr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6-09T14:29:51Z</dcterms:modified>
  <cp:revision>12</cp:revision>
  <dc:subject/>
  <dc:title>No Slide Title</dc:title>
</cp:coreProperties>
</file>