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Holy Night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Bethlehem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97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Mary Nelson Keithahn (Luke 2:8-20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8 Abingdon Pres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holy night in Bethlehem the air was filled with so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gelic voices sang on high and shepherds piped along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glory, glory, gloria! God's love is given birth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not afraid!  Sing gloria, and peace to all the earth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ir music echoe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the town into the stable stall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Mary sang a lullaby and rocked her baby small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glory, glory, gloria! God's love is given birth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not afraid!  Sing gloria, and peace to all the earth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Joseph touched the lamb's soft wool and fed the donkey ha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whistled his own happy tune and thanked Go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day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glory, glory, gloria! God's love is given birth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not afraid!  Sing gloria, and peace to all the earth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still, and you will hear tonight these melodies of ol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join your voice in harmony until the tale is told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glory, glory, gloria! God's love is given birth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not afraid!  Sing gloria, and peace to all the earth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16T15:42:46Z</dcterms:modified>
  <cp:revision>54</cp:revision>
  <dc:subject/>
  <dc:title>A Shield About Me</dc:title>
</cp:coreProperties>
</file>