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Font W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t Our Journe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1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effery Rowthor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font we start our journey, in the Easter faith baptize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ubts and fears no longer blind us, by the light of Christ surpris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held out and realiz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pulpit we are fashioned by the Easter tale reto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witnesses and prophets, by the power of Christ made bo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proclaimed, yet still unto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altar we are nourished with the Easter gift of brea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breaking it to pieces see the love of Christ outspr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embraced, yet freely sh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door we are commissioned, now the Easter victory's w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restore a world divide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peace of Chris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ster's work must still be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8T22:55:44Z</dcterms:modified>
  <cp:revision>73</cp:revision>
  <dc:subject/>
  <dc:title>A Shield About Me</dc:title>
</cp:coreProperties>
</file>