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Moth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Br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mother, who is my broth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who gather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blown people born from the Gosp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t at the table, rou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erently able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erently labe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n the circle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tches and stigmas, cultures' enig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ome together round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ill relate us col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stat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't segregate us,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mily failings, human derail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e accepted, round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by one vision, met for one 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laim each other,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my mother, here is my br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red in Spirit, through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43:58Z</dcterms:modified>
  <cp:revision>33</cp:revision>
  <dc:subject/>
  <dc:title>In His Time</dc:title>
</cp:coreProperties>
</file>