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dom Is Com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South Afri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Utry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dom is coming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dom is coming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dom is com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2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s, I know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s, I know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s, I know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s, I know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s, I k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2T02:09:03Z</dcterms:modified>
  <cp:revision>49</cp:revision>
  <dc:subject/>
  <dc:title>I Am the God That Healeth Thee</dc:title>
</cp:coreProperties>
</file>