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0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0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Rising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Su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0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00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2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0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0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non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0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rising of the su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going down of the s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ame of the Lord shall be prais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rising of the su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going down of the s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ame of the Lord shall be prais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praise y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y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rising of the su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going down of the s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ame of the Lord shall be prais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3T20:15:48Z</dcterms:modified>
  <cp:revision>12</cp:revision>
  <dc:subject/>
  <dc:title>A Shield About Me</dc:title>
</cp:coreProperties>
</file>