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celebrate his lov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celebrate new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sing about his love for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iving here inside of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5:24Z</dcterms:modified>
  <cp:revision>32</cp:revision>
  <dc:subject/>
  <dc:title>A Shield About Me</dc:title>
</cp:coreProperties>
</file>