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s in You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niel Gardn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Integrity's Hosann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trength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, it's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trength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, it's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praise you with all of my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praise you with all of my streng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of my life, with all of my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my hope is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trength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, it's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trength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, it's in you,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0:49:52Z</dcterms:modified>
  <cp:revision>13</cp:revision>
  <dc:subject/>
  <dc:title>As the Deer</dc:title>
</cp:coreProperties>
</file>