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y Has God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saken M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1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William L. Walla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1 William L. Wallace;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Why has God forsaken me?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ied out Jesus from the cro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he shared the loneline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our deepest grief and lo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tomb of Lazar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wept with open grief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us, God, the tears which hea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pain and unbelief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as his life expir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ace himself within God's car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our dying, Christ, may w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st the love which conquers fe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stery shrouds our life and deat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we need not be afrai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mystery's heart is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great love which Christ display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8T22:15:18Z</dcterms:modified>
  <cp:revision>69</cp:revision>
  <dc:subject/>
  <dc:title>A Shield About Me</dc:title>
</cp:coreProperties>
</file>