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rol of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piphan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9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Bell (Matt. 2:1-1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WGRG The Iona Commun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ought him dressed in finest cloth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money talks and status g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power and wealth he never chos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seemed he lived in pover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ought him in the safest pl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ote from crime or cheap disgr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safety never knew his fac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seemed he lived in jeopard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ought him where the spotlights gla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crowds collect and critics sta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no one knew his presence ther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seemed he lived in obscur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, in the streets, w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d the w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eemed, for all the world, absur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ose who could no gifts aff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entertaining Chris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, distinct from all we'd plann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ong the poorest of the l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did what few might understan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ouched God in a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by's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09T14:13:59Z</dcterms:modified>
  <cp:revision>53</cp:revision>
  <dc:subject/>
  <dc:title>A Shield About Me</dc:title>
</cp:coreProperties>
</file>