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 to 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Veni Sancte Spiri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ntecost Sequ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 to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shine fo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gloriou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the four wi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, come breath of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rse the shadows over us, renew and strengthen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Father of 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enerous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ight of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the p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our pov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er upon us the seven gifts of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light of our lives oh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our only comforter, Peace of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at you shade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abor you refresh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rouble you are our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in our hearts the flame of y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e darkness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ay glow and reach to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47:52Z</dcterms:modified>
  <cp:revision>79</cp:revision>
  <dc:subject/>
  <dc:title>A Shield About Me</dc:title>
</cp:coreProperties>
</file>