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wo Fishermen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uzanne Too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GIA Publications, Inc.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ave all things you have and come and follow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me and follow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, good Christians, one and all who'd follow Jesus'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leave behind what keeps you bound to trappings of our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sten as he calls your name to come and follow nea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ill he speaks in varied ways to those his call will h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ave all things you have and come and follow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me and follow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wo fishermen, who lived along the Sea of Galil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od by the shore to cast their nets into an ageless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Jesus watched them from afar, then called them each b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hanged their lives, these simple men; they'd never be the s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ave all things you have and come and follow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me and follow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s he wlked along the shore 'twas James and John he'd f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se two sons of Zebedee would leave their boats beh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work and all they held so dear they left beside their ne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names they'd hear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Jesus called; they came without regr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ave all things you have and come and follow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me and follow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mon Peter, Andrew, James, and John beloved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eard Christ's call to speak good news revealed to God's own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sanna, Mary, Magdalene who traveled with your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ministered to him with joy for he is God ado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7T00:02:36Z</dcterms:modified>
  <cp:revision>59</cp:revision>
  <dc:subject/>
  <dc:title>A Shield About Me</dc:title>
</cp:coreProperties>
</file>