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. Jefferson Cleveland (Ps 15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J. Jefferson Clevela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he sound of the trump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he lute and the harp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imbrel and danc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herever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holy cymbal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strings and with pip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clashing cymbal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all your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in the holy tem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almighty deed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those bountiful merc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fulfills our n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on top of the mountai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both day and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down in the low valle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because it's al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5T00:35:26Z</dcterms:modified>
  <cp:revision>15</cp:revision>
  <dc:subject/>
  <dc:title>A Shield About Me</dc:title>
</cp:coreProperties>
</file>