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Worship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okesbu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blessings great and sm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God an offer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your thanks for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Jesus long a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ught us how to talk to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we shou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is like a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ing you the way to g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burning br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e Sabbath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a rest and think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your work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’s unending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out to love and hel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everyw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0:17:00Z</dcterms:modified>
  <cp:revision>41</cp:revision>
  <dc:subject/>
  <dc:title>Walk With Me</dc:title>
</cp:coreProperties>
</file>