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89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'll Know We Are Christians by Our L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2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Peter Scholt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66 F.E.L. Public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raise to the Father, from whom all things co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praise to Christ Jesus, God's only s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praise to the Spirit, who makes us on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y'll know we a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ians by our lov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our lo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they'll know we ar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Christians by our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one in the Spirit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one in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one in the Spirit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one in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pray that all unity may one day be restore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y'll know we a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ians by our lov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our lo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they'll know we ar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Christians by our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walk with each other, we will walk h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a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walk with eac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ther, we will walk h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a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gether we'll spread the news that God is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lan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y'll know we a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ians by our lov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our lo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they'll know we ar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Christians by our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work with each other, we will work sid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sid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work with each other, we will work sid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sid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'll guard human dignity and save human prid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y'll know we a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ians by our lov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our lo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they'll know we ar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Christians by our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6-09T14:47:03Z</dcterms:modified>
  <cp:revision>32</cp:revision>
  <dc:subject/>
  <dc:title>In His Time</dc:title>
</cp:coreProperties>
</file>