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wee Hong Lim (Isa. 1:1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Genl. Bd. of Global Mi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 o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 o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red like crimson is my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er yet is forgivenes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 o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2:37:55Z</dcterms:modified>
  <cp:revision>46</cp:revision>
  <dc:subject/>
  <dc:title>Walk With Me</dc:title>
</cp:coreProperties>
</file>