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ylvia G. Dunst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gather gladly; holy manna is our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wilderness and wandering. Here, in truth we shall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at yearn for days of fullness, all around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r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never strangers; seeker, be a welcome gu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restlessness and roaming.  Here,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, we keep the f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ose who from this table live their liv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sing together; Jesus Christ is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loneliness and longing.  Here in peace, we have been 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ose who from this table live their lives in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53:54Z</dcterms:modified>
  <cp:revision>88</cp:revision>
  <dc:subject/>
  <dc:title>A Shield About Me</dc:title>
</cp:coreProperties>
</file>