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ke Up This Morni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. Spri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h, Jesus is the captain in your mind, when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Jesus is the captain in your mind, when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Jesus is the captain in your mind, when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h, I woke up this morning with my mind, and it was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oke up this morning with my mind, and it was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oke up this morning with my mind, and it was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h, can't hate your neighbor in your mind, if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can't hate your neighbor in your mind, if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can't hate your neighbor in your mind, if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h, makes you love everybody with your mind, when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kes you love everybody with your mind, when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1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kes you love everybody with your mind, when you keep it stayed,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h, the devil can't catch you in your mind, if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he devil can't catch you in your mind, if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he devil can't catch you in your mind, if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05:59:16Z</dcterms:modified>
  <cp:revision>39</cp:revision>
  <dc:subject/>
  <dc:title>A Shield About Me</dc:title>
</cp:coreProperties>
</file>