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Unity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Our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n Medem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Brier Patch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unity we lift our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rateful ador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rothers brave and sisters strong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use for 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hose faithful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kept us through distr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've shared with us our p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've held us in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ed congreg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ories told and told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gener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us strength in time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us consol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to rev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our dream a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far from h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il seasons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irm is our found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acred scriptures handed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lessed trust and treas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give us hope when hope is g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weep with plea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our eyes grow bl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ath is close beh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recite them st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words our heart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f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ope beyond all mea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our way, our bread, our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these gifts the G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trength, our guid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nurturing bre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hand will yet del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keeps us till the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night shall pass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te and fear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our work is d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shall sing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2:53:31Z</dcterms:modified>
  <cp:revision>25</cp:revision>
  <dc:subject/>
  <dc:title>In His Time</dc:title>
</cp:coreProperties>
</file>