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Long, O Lor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0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arbara Woollett (Ps. 1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0 Jubilate Hym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long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forget an answer to my prayer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okens of your lov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face is turned away from me; I wrestle with despai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long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forsake and leave me in this way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ill you come to my relief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is overwhelmed with grief, by evil nigh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long, O Lor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you forgive with mercy from ab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find that all your ways are jus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earn to praise you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rust in your unfailing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7T04:28:38Z</dcterms:modified>
  <cp:revision>12</cp:revision>
  <dc:subject/>
  <dc:title>In His Time</dc:title>
</cp:coreProperties>
</file>