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Now L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atherine K. Dav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6 E. C. Schir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now living a song of thanksg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the Creator triumphantly 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guides us and leads to the end of our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banners fly o'er us; God's light goes before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illar of fire shining forth in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shadows have vanished and darkness is banish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ward we travel from light into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w God enforces, the stars in their cours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n in its orbit obediently sh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lls and the mountains, the rivers and fountai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eps of the ocean proclaim th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oo, should be voicing our love and rejoic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lad adoration a song let us 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ings now living unite in thanksgivi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in the highest hosanna and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3:46:34Z</dcterms:modified>
  <cp:revision>13</cp:revision>
  <dc:subject/>
  <dc:title>A Shield About Me</dc:title>
</cp:coreProperties>
</file>