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, Halle, Halleluj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Caribbe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, Halle, Halleluj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, Halle, Halleluj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, Halle, Halleluj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!  Halleluj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2T23:27:26Z</dcterms:modified>
  <cp:revision>10</cp:revision>
  <dc:subject/>
  <dc:title>A Shield About Me</dc:title>
</cp:coreProperties>
</file>