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. H. McDani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light in the valley of death now for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ates of the City beyond I can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o there to dwell in that City, I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m happy, so happy, as onward I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wonderful change in my life has been wrou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light in my soul for which long I had sou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eased from my wandering and going ast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ins, which were many, are all washed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possessed of a hope that is steadfast and s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 dark clouds of doubt now my pathway obsc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4:04:10Z</dcterms:modified>
  <cp:revision>104</cp:revision>
  <dc:subject/>
  <dc:title>A Shield About Me</dc:title>
</cp:coreProperties>
</file>