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You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nder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raham Kendrick (Isa. 61: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Kingway's Thank You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your tenderness, melting all my bittern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 receive y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your loveliness, changing my unworthin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 receive y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 receive your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 receive y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3T20:47:38Z</dcterms:modified>
  <cp:revision>7</cp:revision>
  <dc:subject/>
  <dc:title>No Slide Title</dc:title>
</cp:coreProperties>
</file>