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 to follow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 to follow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 to follow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behind me, the cross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behind me, the cross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behind me, the cross befor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ne go with me, still I will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ne go with me, still I will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ne go with me, still I will fol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5T02:25:08Z</dcterms:modified>
  <cp:revision>91</cp:revision>
  <dc:subject/>
  <dc:title>A Shield About Me</dc:title>
</cp:coreProperties>
</file>