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Virgin Mary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d a Baby Bo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9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West Indian Caro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45 Boosey &amp; Co., Ltd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yes!  believer! Oh, yes! believe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ome from the glory, he come from the glorious kingdo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ise men came where the baby was bor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ise men came where the baby was bor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ise men came where the baby was bor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y say that his name is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ome from the glory, he come from the glorious kingdo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ome from the glory, he come from the glorious kingdo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yes!  believer! Oh, yes! believe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ome from the glory, he come from the glorious kingdo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virgin Mary had a baby bo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virgin Mary had a baby bo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virgin Mary had a baby bo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y say that his name is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ome from the glory, he come from the glorious kingdo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ome from the glory, he come from the glorious kingdo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yes!  believer! Oh, yes! believe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ome from the glory, he come from the glorious kingdo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angels sang when the baby was bor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angels sang when the baby was bor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angels sang when the baby was bor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y say that his name is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ome from the glory, he come from the glorious kingdo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ome from the glory, he come from the glorious kingdo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yes!  believer! Oh, yes! believe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ome from the glory, he come from the glorious kingdo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hepherds came where the baby was bor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hepherds came where the baby was bor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hepherds came where the baby was bor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y say that his name is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ome from the glory, he come from the glorious kingdo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ome from the glory, he come from the glorious kingdo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6T15:55:49Z</dcterms:modified>
  <cp:revision>56</cp:revision>
  <dc:subject/>
  <dc:title>A Shield About Me</dc:title>
</cp:coreProperties>
</file>