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Upo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O'Shields (Ps 18:1-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Universal MCA Music Publ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upo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I will call upon the Lord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worthy to be praised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Who is worthy to be praised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I be saved from my enem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So shall I be saved from my enemies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653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upo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3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liveth, and blessed be the Rock; and let the God of my salvation be exal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3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The Lord liveth, and blessed be the Rock; and let the God of my salvation be exalte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53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36:04Z</dcterms:modified>
  <cp:revision>10</cp:revision>
  <dc:subject/>
  <dc:title>A Shield About Me</dc:title>
</cp:coreProperties>
</file>