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Cu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nt to see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ach out and touch h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y that we love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ar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o lis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nt to see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04:24Z</dcterms:modified>
  <cp:revision>43</cp:revision>
  <dc:subject/>
  <dc:title>A Shield About Me</dc:title>
</cp:coreProperties>
</file>