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Fred Pratt Gree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 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love that makes us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as Christians, to ac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Lord, and you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, unless you bless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each other bl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as you live within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depth of happ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oving be a sha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gifts we each poss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o failure of forbear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our love to bitt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 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our friend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joy that blesses oth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love that never 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22:01Z</dcterms:modified>
  <cp:revision>40</cp:revision>
  <dc:subject/>
  <dc:title>In His Time</dc:title>
</cp:coreProperties>
</file>