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W. &amp; Deborah D. Smi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Meadowgreen Music Co,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holy and j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power we trust in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faithful and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mercy he proves h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; now lift up your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ift up your vo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holy and j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power we trust in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faithful and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mercy he proves h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; now lift up your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ift up your vo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 and worthy of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 and worthy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; I lift up my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ift up my vo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3:51:41Z</dcterms:modified>
  <cp:revision>30</cp:revision>
  <dc:subject/>
  <dc:title>A Shield About Me</dc:title>
</cp:coreProperties>
</file>