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 Lor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anctu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Lord of power and m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,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your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to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to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, bless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he who comes in the nam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, bless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he who comes in the nam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3:46:04Z</dcterms:modified>
  <cp:revision>22</cp:revision>
  <dc:subject/>
  <dc:title>Walk With Me</dc:title>
</cp:coreProperties>
</file>