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Be Glorifi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ob Kilpatric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Lorenz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lives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orified, be glor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lives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orified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homes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orified, be glor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homes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orified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church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orified, be glor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church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orified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world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orified, be glor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world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orified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03:35:29Z</dcterms:modified>
  <cp:revision>13</cp:revision>
  <dc:subject/>
  <dc:title>A Shield About Me</dc:title>
</cp:coreProperties>
</file>