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mmon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r summons echoes true when you but call m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turn and follow you and never be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company I'll g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your love and footsteps sh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I'll move and live and g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come and follow me if I but call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go where you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't know and never be the s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my love be sh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my name be kn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my life b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n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ave yourself behind if I but call your 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care for cruel and kind and never be the s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risk the hostile sta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your life attract or scar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me answer pr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the blinded see if I but call your 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set the prisoners free and never be the s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kiss the leper cl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 such as t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dmit to what I me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ove the "you" you hide if I but call your 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quell the fear inside and never be the s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7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use the fa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ve fou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shape the world ar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my sight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and s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3-06-28T16:21:21Z</dcterms:modified>
  <cp:revision>93</cp:revision>
  <dc:subject/>
  <dc:title>A Shield About Me</dc:title>
</cp:coreProperties>
</file>