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Enviado Soy de Dio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; Trans Jorge Maldona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©198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601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902016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ángeles no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s a cambi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de dol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un mundo de pa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cannot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of hurt and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a worl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ustice an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ha tocado a m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cerlo realid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údame,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acer tu volunt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is ours to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t it really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to ob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rry out your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cannot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of hurt and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a worl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ustice an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is ours to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t it really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to ob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rry out your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ángeles no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s a cambi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de dol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un mundo de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ha tocado a m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cerlo realid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údame,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acer tu volun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601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16:58:38Z</dcterms:modified>
  <cp:revision>40</cp:revision>
  <dc:subject/>
  <dc:title>I Am the God That Healeth Thee</dc:title>
</cp:coreProperties>
</file>