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Are On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iss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sty Edward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are one in mission; we all are one in c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varied gifts united by Christ, the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ingle great commission compels us from ab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lan and work together that all may know Christ'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are called for service, to witness in God's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inistries are different; our purpose is the sa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ouch the lives of others by God's surprising g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every folk and nation may feel God's warm emb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us be united,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song be he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us be a vessel for God's redeeming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are one in mission; we all are one in c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varied gifts united by Christ, the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2:45:41Z</dcterms:modified>
  <cp:revision>9</cp:revision>
  <dc:subject/>
  <dc:title>Walk With Me</dc:title>
</cp:coreProperties>
</file>