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Is You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 Adl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Heart of the Cit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i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ll I need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ource of all I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want i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ll I want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ource of all I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want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only hope i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y only hope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ource of all I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only hope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0:17Z</dcterms:modified>
  <cp:revision>38</cp:revision>
  <dc:subject/>
  <dc:title>A Shield About Me</dc:title>
</cp:coreProperties>
</file>