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a Faith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Thornbur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a faith so color bl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free from time worn 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hen we look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ce to f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the ey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an ethic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pec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honest pledge of tru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hen we share the deepest th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eel the warmth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to act as well as spea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each other's swea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s we labor side b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o the work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hristians, look for charact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t for shade of sk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s we rend the wall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ve the peac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3:36:07Z</dcterms:modified>
  <cp:revision>36</cp:revision>
  <dc:subject/>
  <dc:title>I Am the God That Healeth Thee</dc:title>
</cp:coreProperties>
</file>