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Praise the Hidde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red Pratt Green (Acts 17:23-2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Hope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praise the hidden Go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om we all must live and m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hepherds us at ev'ry stag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youth, maturity, and ag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hallenged us, when we were you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orm the citadels of wr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are for others taught us h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true community must gr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ids us never lose our z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age is urging us to r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proves to us that we have st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k to do, a place to f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4-04T04:46:45Z</dcterms:modified>
  <cp:revision>8</cp:revision>
  <dc:subject/>
  <dc:title>As the Deer</dc:title>
</cp:coreProperties>
</file>