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Camero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0 WGRG The Iona Commun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y did he com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y did he com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jo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jo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jo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01:56Z</dcterms:modified>
  <cp:revision>42</cp:revision>
  <dc:subject/>
  <dc:title>A Shield About Me</dc:title>
</cp:coreProperties>
</file>