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Be Baptized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5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Gary Alan Smit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2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s a child, come to the water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family of God, come, sons and daughte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 the river, the Lord, the life-give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h in the love that is sent from ab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be baptized in the name of the Fath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be baptized in the name of the S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be baptized in the name of the Spiri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be baptized in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s a child, come, sons and daughter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aw from the well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-giving wate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ink of the river, the Lord, the life-give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el how it pours out the life that is you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be baptized in the name of the Fath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be baptized in the name of the S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be baptized in the name of the Spiri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be baptized in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28T05:45:06Z</dcterms:modified>
  <cp:revision>18</cp:revision>
  <dc:subject/>
  <dc:title>Walk With Me</dc:title>
</cp:coreProperties>
</file>