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arbara Ro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Palm Branch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freely f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them who are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quench the righteous thir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who humbly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freely f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them who are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quench the righteous thir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who humbly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1:52:55Z</dcterms:modified>
  <cp:revision>94</cp:revision>
  <dc:subject/>
  <dc:title>A Shield About Me</dc:title>
</cp:coreProperties>
</file>