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i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ome to you in the sile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lift you from all your f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hear my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laim you as my ch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 I am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hope for all who are hopel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eyes for all who l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hadows of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be y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rest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strength for all the despai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for the ones who dwell in sh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blind will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e will run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ill know m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Word that leads all to freedo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peace the world cannot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your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ing all your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now walk, and 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44:32Z</dcterms:modified>
  <cp:revision>21</cp:revision>
  <dc:subject/>
  <dc:title>In His Time</dc:title>
</cp:coreProperties>
</file>