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 Closer Walk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on. (James 4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weak, but thou art str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keep me from all wr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be satisfied as l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 walk, let me walk clos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 closer walk with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it, Jesus is my ple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walking close to th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e, dear Lord, let i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is world of toil and snar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falter Lord, who care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th me my burden share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but thee, dear Lord, none but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 closer walk with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it, Jesus is my ple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walking close to th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e, dear Lord, let i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feeble life is o’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for me will be no mo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e gently, safely o'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shore, dear Lord, to thy sh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 closer walk with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it, Jesus is my ple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walking close to th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e, dear Lord, let i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03:25:01Z</dcterms:modified>
  <cp:revision>13</cp:revision>
  <dc:subject/>
  <dc:title>I Am the God That Healeth Thee</dc:title>
</cp:coreProperties>
</file>