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ing of Your Glo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Tuya Es la Gloria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1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d. Latin Ameri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6 (Eng trans) GBC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ti yo me rindo, te tedoro tambié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or absoluto.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én. Amé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ing of surrender to you, God,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power is eternal. Amen. 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y en la tierra tambié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, aleluya.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én. Amé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Glory in the highest, on earth," sing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Alleluia.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. 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ing of your glory, we praise you ag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 are eternal. Amen. 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ing of your power and honor ag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 are eternal. Amen. 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ing of surrender to you, God,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power is eternal. Amen. 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Glory in the highest, on earth," sing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Alleluia.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. 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ya es la gloria la honra tambié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ya para siempre.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én. Amé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yos los dominios, los tronos tambié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yos para siempre.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én. Amé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ti yo me rindo, te tedoro tambié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or absoluto.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én. Amé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y en la tierra tambié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, aleluya.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én. Amé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ya es la gloria la honra tambié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ya para siempre.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én. Amé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ing of your glory, we praise you ag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 are eternal. Amen. 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429000"/>
            <a:ext cx="8458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yos los dominios, los tronos tambié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yos para siempre.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én. Amé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ing of your power and honor ag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 are eternal. Amen. 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429000"/>
            <a:ext cx="87631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4-05T00:38:32Z</dcterms:modified>
  <cp:revision>16</cp:revision>
  <dc:subject/>
  <dc:title>A Shield About Me</dc:title>
</cp:coreProperties>
</file>