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my han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my han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my han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your chil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your chil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your chil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my hear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my hear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my hear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04:20:23Z</dcterms:modified>
  <cp:revision>11</cp:revision>
  <dc:subject/>
  <dc:title>In His Time</dc:title>
</cp:coreProperties>
</file>