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Exalte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wila Par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5 Straightway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exalted, the King is exalted on hig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praise him.  He is exalted, for ever exalted and I will praise his na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the Lord, forever his truth shall reig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rejoice in his hol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exalted, the King is exalted on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9T02:48:26Z</dcterms:modified>
  <cp:revision>28</cp:revision>
  <dc:subject/>
  <dc:title>A Shield About Me</dc:title>
</cp:coreProperties>
</file>