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hildr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 &amp; Paul Muraka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bended knee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y heart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illing hearts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arm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bended knee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y heart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sten to your childr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bended knee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y heart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imple words and heartfelt thanks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ing in your promises, we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bended knee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y heart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sten to your childr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14:35Z</dcterms:modified>
  <cp:revision>10</cp:revision>
  <dc:subject/>
  <dc:title>In His Time</dc:title>
</cp:coreProperties>
</file>