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Lin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ask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lined a bask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her baby d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rocked him on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he awake and c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let a princess na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 that he might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eople had a lea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had such hope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sewed a jack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ned in the softest woo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dressed her little boy chi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cup of blessing fu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brought him to the tem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would serve and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eople had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had such faith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laid her bab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anger lined with stra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in the shepherd's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all from God fores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nurtured him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ught h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 that he must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eople had a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had such love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Jochebed and Hann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ry, too, we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rdest part of lo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earning to let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en we send our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in the world to 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such hope and faith,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enough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39:36Z</dcterms:modified>
  <cp:revision>46</cp:revision>
  <dc:subject/>
  <dc:title>I Am the God That Healeth Thee</dc:title>
</cp:coreProperties>
</file>