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lked Thi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some Vall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merican folk hym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lked this lonesome valle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d to walk it by him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else could walk it for hi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d to walk it by him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ust walk this lonesome valle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to walk it by oursel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else can walk it for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to walk it by oursel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ust go and stand your tria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to stand it by your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else can stand it for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to stand it by your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33:21Z</dcterms:modified>
  <cp:revision>71</cp:revision>
  <dc:subject/>
  <dc:title>A Shield About Me</dc:title>
</cp:coreProperties>
</file>