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vid Haas (Matt. 5:3-1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5 GIA Pub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and be glad! Blessed a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are you. Rejoice an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a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 is the kingdom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, the poor in spiri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s is the kingdom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, full of sorr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hall be conso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and be glad! Blessed a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are you. Rejoice an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a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 is the kingdom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, the lowly one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hall inherit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 who hunger and thir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hall have their f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and be glad! Blessed a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are you. Rejoice an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a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 is the kingdom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 who show merc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rcy shall be thei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, the pure of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hall see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 who seek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are the children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 who suffer in fait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ory of God is thei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and be glad! Blessed a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are you. Rejoice an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a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 is the kingdom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you who suffer hat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because of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and be glad, yours is the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for all to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4T16:26:43Z</dcterms:modified>
  <cp:revision>15</cp:revision>
  <dc:subject/>
  <dc:title>No Slide Title</dc:title>
</cp:coreProperties>
</file>