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Prince of Peace (O-So-S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eonyong Lee; Marion Po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eonyong Le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ng-il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yong-hwa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Prince of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, 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-rang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Go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-yu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r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set us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ur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ng-il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pe of unity, mak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Prince of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, 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Go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set us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ur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pe of unity, mak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yong-hwa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-rang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-yu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r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34:10Z</dcterms:modified>
  <cp:revision>25</cp:revision>
  <dc:subject/>
  <dc:title>In His Time</dc:title>
</cp:coreProperties>
</file>