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How Ca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rg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The Pilgrim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how can we for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onds of love are tor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rise and start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rust rebor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uman loving fai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hope is g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gives strength beyond our ow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ace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have missed the mar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ars of anguish f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you still release our guil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bt we ow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cean depth of g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passes all our n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riest who shares our human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terced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ares to throw the st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amn another's s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, while know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pa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agai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 play the judg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your grace we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you, O God, forgi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for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59:39Z</dcterms:modified>
  <cp:revision>22</cp:revision>
  <dc:subject/>
  <dc:title>I Am the God That Healeth Thee</dc:title>
</cp:coreProperties>
</file>