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ly Pass th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uds of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H. Troeg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Oxford University Pres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ly pass the clouds of glory, heaven's voice the dazzling l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es and Elijah vanish; Christ alone commands the he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ter, James, and John fall silent, turning from the summit's 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ward toward the shadowed valley where their Lord has fixed his ey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impsed and gone the revelation, they shall gain and keep its tru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by building on the mountain any shrine or sacred booth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by following the Savior through the valley to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testing faith's resilience through betrayal, pain, and l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transfigure our perception with the purest light that shi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cast our life's intentions to the shape of your desig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seek no other glory than what lies past Calvary's h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living and our dying and our rising by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00:10:40Z</dcterms:modified>
  <cp:revision>60</cp:revision>
  <dc:subject/>
  <dc:title>A Shield About Me</dc:title>
</cp:coreProperties>
</file>