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Ask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Ques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irk Frankl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Lilly Mack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cross that riv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udy war no 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ing our song to Jesus, the One whom we ad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eye is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row.  That's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I give praise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asked the question, "Why do we s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ift our hands to Jesus what do we really mean?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may b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en we sing ou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imes we may be crying and nothing's really w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eye is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row.  That's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I give praise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ong is o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ve all said, "Amen,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heart just keeps on singing and the song will never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somebody asks you, "Was it just a show,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your hands and be a witness and tell the whole world "No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eye is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row.  That's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I give praise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6-09T14:26:19Z</dcterms:modified>
  <cp:revision>9</cp:revision>
  <dc:subject/>
  <dc:title>No Slide Title</dc:title>
</cp:coreProperties>
</file>