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with a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ful Min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1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ohn Milt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Oxford Univ. Pres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with a joyful min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our God forever ki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ch with mercies that endu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 faithful, ever su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w made earth was filled with l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God's all commanding m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ch with mercies that endu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 faithful, ever su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zzling bright the sun obey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ho shines with brighter ray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ch with mercies that endu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 faithful, ever su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rs and moon that spangle n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depend on heaven's l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ch with mercies that endu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 faithful, ever su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eatures of the sea and lan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are fed by God's own ha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ch with mercies that endu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 faithful, ever su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fore with a joyful mi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our God forever ki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ch with mercies that endu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 faithful, ever su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3T15:13:38Z</dcterms:modified>
  <cp:revision>18</cp:revision>
  <dc:subject/>
  <dc:title>A Shield About Me</dc:title>
</cp:coreProperties>
</file>