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ng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Hosann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uried him not knowing that on the third day mo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isen Christ would greet us and hope would be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evil had extinguished the life that burned so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God would triumph like dawn that ends the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ng our glad hosannas and waved our branches hi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ome were silent, frowning, as Jesus rode on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ought a royal Savior, but did not underst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king could rule by lo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tead of by comm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d an angry Jes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emple courts decl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 gone, you money changers!  This is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use of prayer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many came for healing and stayed to hear his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others, hostile, plotted and thus his death sec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rved him at the table with wine, unleavened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e one who will betra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now eats with me," he s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riends would not believe him, but one by one that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soldiers came to take him, they scurried out of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w a suffering Jesus alone, without a fri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d the voices shouting abuse until the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pt as we stood watching Love's light grow dim and di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ied, "Why did this happen?  God, tell 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us wh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27:42Z</dcterms:modified>
  <cp:revision>70</cp:revision>
  <dc:subject/>
  <dc:title>A Shield About Me</dc:title>
</cp:coreProperties>
</file>