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ource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d Lea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Oxford Univ. Pres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ource of faith and lea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s sparked and stoked the m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passion for disce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 world has been design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sense of wonder flow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wonders we surv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our faith forever grow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new our need to pr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wisdom, we acknowled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ur science and our 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readth of human knowled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partial truth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beyond our calcul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a depth we cannot s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your purpose for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pulse of life are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faith redeem the blu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elieving that our thou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displaced the grounds for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the ancient prophets tau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learning curb the err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unthinking faith can br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justify some terr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n antiquated cr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wo currents in a r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 each other's undert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onverging they del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oherent steady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nd, O God, our faith and lea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y carve a single cour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y join as one retu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thanks to you, their Sour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58:28Z</dcterms:modified>
  <cp:revision>12</cp:revision>
  <dc:subject/>
  <dc:title>A Shield About Me</dc:title>
</cp:coreProperties>
</file>