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Por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0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bread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now and hunger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friends if you keep my comm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longer servants but fri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my people have nothing to ea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em the bread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 has loved me so I have loved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and live on in my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4:29:20Z</dcterms:modified>
  <cp:revision>26</cp:revision>
  <dc:subject/>
  <dc:title>Walk With Me</dc:title>
</cp:coreProperties>
</file>