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 of Wonder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ne Parker Hub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Jane Parker Hub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 of wonders, here reveal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’s covenant with us is sea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ng before we know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’s love enfolds us every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this sacrament we s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’s grace unbound, for all,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respond with joyful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ving service all our d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child of God, though young or o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lcome now into Christ’s fo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with us God’s loving ca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ll our joys and sorrows sh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our vow of faith re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tch wide our sights to global vi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aim with Christian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and n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rger family held d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4:34:49Z</dcterms:modified>
  <cp:revision>13</cp:revision>
  <dc:subject/>
  <dc:title>Walk With Me</dc:title>
</cp:coreProperties>
</file>