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g of Hop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Canto de Esperanza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8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lvin Schutma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emos por la paz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emos de tu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ing, let us work for pe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, share our joy with al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uchemos por la paz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eles a ti,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king for a world that's n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ful when we hear Christ's c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e God of hope go with us every d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ing all our lives with love and joy and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e God of justice speed us on our 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ing light and hope to every land and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ing, let us work for pe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, share our joy with al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king for a world that's n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ful when we hear Christ's c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Dios de la esperanza, gozo y paz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mundo en crisis, habla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 ver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os de la justicia, mándanos tu luz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uz y esperanza en la oscuri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emos por la paz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emos de tu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uchemos por la paz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eles a ti,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Dios de la esperanza, gozo y paz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mundo en crisis, habla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 verda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e God of hope go with us every d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ing all our lives with love and joy and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os de la justicia, mándanos tu luz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uz y esperanza en la oscuri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e God of justice speed us on our 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ing light and hope to every land and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1T03:56:51Z</dcterms:modified>
  <cp:revision>43</cp:revision>
  <dc:subject/>
  <dc:title>I Am the God That Healeth Thee</dc:title>
</cp:coreProperties>
</file>