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The Hymn Society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, loving Spirit, you have chosen me to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drawn me to your wonder you have set your sign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other you enfold me, hold my life within your 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with your very body, form me of your flesh and b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father you protect me, teach me the discerning ey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ist me up upon your shoulder, let me see the world from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 and lover, in your closeness I am known and held and bless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promise is my comfort, in your presence I may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, loving Spirit, you have chosen me to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drawn me to your wonder you have set your sign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0T01:04:00Z</dcterms:modified>
  <cp:revision>85</cp:revision>
  <dc:subject/>
  <dc:title>A Shield About Me</dc:title>
</cp:coreProperties>
</file>