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rvant So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hard Gillard (Matt. 20:2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7 Scripture in So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sister, let me serve you, let me be as Christ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that I may have the grace to let you be my servant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pilgrims on a journey; we're togeth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ro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to help each other walk the mile and bear the lo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hold the Christligh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in the nightti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your fea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hold my hand out to you, speak the peace you long to h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eep when you are weeping; when you laugh I'll laugh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hare your joy and sorrow till we've seen this journey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sing to God in heaven, we shall fi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harmon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all we've known together of Christ's love and agon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sister, let me serve you, let me be as Christ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that I may have the grace to let you be my servant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sister, let me serve you, let me be as Christ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that I may have the grace to let you be my servant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be your servant, let me be as Christ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3:00:13Z</dcterms:modified>
  <cp:revision>26</cp:revision>
  <dc:subject/>
  <dc:title>In His Time</dc:title>
</cp:coreProperties>
</file>