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280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ris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Scott Wesley Brown &amp; David Hampt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©1996 New Spring Publishing, Inc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eart, one Spirit, one voice to prais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al, one vision:  To see you exal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is we give our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hrist.  One goal, one visio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 exal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, we are th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, 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eart, one Spirit, one voice to prais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al, one vision:  To see you exal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54:57Z</dcterms:modified>
  <cp:revision>37</cp:revision>
  <dc:subject/>
  <dc:title>In His Time</dc:title>
</cp:coreProperties>
</file>