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Midst of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w Dimension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3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ulian B. Rus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4 Julian B. Rus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uld the threats of dire predictions cause us to withdraw in p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your blazing phoenix spirit resurrect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urch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rainbow, fiery pillar, leading where the eagles so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your people, ours the journey now and ever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and ever, now and 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midst of new dimensions, in the fac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changing way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ill lead the pilgrim peoples wandering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separate ways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rainbow, fiery pillar, leading where the eagles so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your people, ours the journey now and ever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and ever, now and 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the flood of starving people, warring factions and despai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ill lift the olive branches?  Who will light the flame of car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rainbow, fiery pillar, leading where the eagles so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your people, ours the journey now and ever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and ever, now and 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stand a worl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vided by our ow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lf-seeking schem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that we, your global village, might envision wider dream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rainbow, fiery pillar, leading where the eagles so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your people, ours the journey now and ever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and ever, now and 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man and we are woman, all persuasions, old and you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a gift in y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ion, each a lov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g to be su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rainbow, fiery pillar, leading where the eagles so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your people, ours the journey now and ever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and ever, now and 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3-24T03:59:38Z</dcterms:modified>
  <cp:revision>11</cp:revision>
  <dc:subject/>
  <dc:title>A Shield About Me</dc:title>
</cp:coreProperties>
</file>