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round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eron Davis (Exod. 3: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Meadowgreen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tanding on holy g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there are angels all arou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Jesus n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tanding in his presence on holy g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06:43Z</dcterms:modified>
  <cp:revision>41</cp:revision>
  <dc:subject/>
  <dc:title>Walk With Me</dc:title>
</cp:coreProperties>
</file>