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to You, 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arcia Grindal (Deut., Ps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Selah Publishing Co.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to you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ock who gave us bi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rejoicing sing your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, O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ongs be raised, in joyful hymns, our feast of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ndered far from h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in a desert l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hielded with your love our fearful pilgrim b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kept us sa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your arms and sheltered us agains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or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bear us through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eagle to her you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rises on her wings and bears us toward the s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ide the vaul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light and air and trust in your unfailing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eternal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ide within your wing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verlasting arms to whom our praises 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ord is tru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ay is just, you are the God in whom we tru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9:03:38Z</dcterms:modified>
  <cp:revision>11</cp:revision>
  <dc:subject/>
  <dc:title>A Shield About Me</dc:title>
</cp:coreProperties>
</file>