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in the Morning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8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Natalie Sleet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7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’ll be joy in the morning on that d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’ll be joy in the morning on that d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daylight will dawn when the darkness is g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’ll be joy in the morning on that d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’ll be peace and contentment evermo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’ll be peace and contentment evermo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heart, every voice on that day will rejo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’ll be peace and contentment evermo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’ll be love and forgiveness everywhe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’ll be love and forgiveness everywhe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way of the Lord will that day be restor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’ll be love and forgiveness everywhe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4-01T21:21:20Z</dcterms:modified>
  <cp:revision>53</cp:revision>
  <dc:subject/>
  <dc:title>Walk With Me</dc:title>
</cp:coreProperties>
</file>