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hildren Belo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mes Ritchi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9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ere children bel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comed as part of the worshiping th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, God's Word, bread and cup, prayer, and so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ere children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3T05:13:07Z</dcterms:modified>
  <cp:revision>26</cp:revision>
  <dc:subject/>
  <dc:title>In His Time</dc:title>
</cp:coreProperties>
</file>