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 (Jn. 5:2-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host all dressed in wh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eader looks like the Israel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band all dressed in 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s like the band that Moses 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ver yonder, what do I s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Ghost a-coming o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don't believe I've been redeem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ollow me down to Jordan's str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03:19:13Z</dcterms:modified>
  <cp:revision>65</cp:revision>
  <dc:subject/>
  <dc:title>A Shield About Me</dc:title>
</cp:coreProperties>
</file>