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3341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ou Didst Leave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y Thron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100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Timothy R. Matthews (Phil. 2:5-11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heav'ns arches shall ring and its choir shall sing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t they coming to victory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thy voice call me home, saying "Yet there is room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re is room at my side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thee!"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my heart shall rejoice, Lord Jesu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thou comest and callest for 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ou didst leave thy throne and thy kingly crow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thou camest to earth for m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ut in Bethlehem's home there was found no room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thy holy nativit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come to my heart, Lord Jesu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re is room in my heart for the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aven's arches rang when the angels sang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oclaiming thy royal degre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ut in lowly birth didst thou come to earth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in great humilit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come to my heart, Lord Jesu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re is room in my heart for the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foxes found rest, and the birds their nes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the shade of the forest tre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ut thy couch was the sod, O thou Son of Go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the deserts of Galile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come to my heart, Lord Jesu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re is room in my heart for the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ou camest, O Lord, with the living Wor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should set thy people fre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ut with mocking scorn, and with crown of thor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y bore thee to Calvar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come to my heart, Lord Jesu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re is room in my heart for the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6T20:29:32Z</dcterms:created>
  <dc:creator>Gary Wintergerst</dc:creator>
  <dc:description/>
  <dc:language>en-US</dc:language>
  <cp:lastModifiedBy>Gary Wintergerst</cp:lastModifiedBy>
  <cp:lastPrinted>1995-07-02T14:48:50Z</cp:lastPrinted>
  <dcterms:modified xsi:type="dcterms:W3CDTF">2001-02-16T16:31:04Z</dcterms:modified>
  <cp:revision>58</cp:revision>
  <dc:subject/>
  <dc:title>A Shield About Me</dc:title>
</cp:coreProperties>
</file>