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3341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epherd Me, O God</a:t>
            </a:r>
            <a:br>
              <a:rPr sz="4800"/>
            </a:b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058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Marty Haugen (Ps. 23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86 GIA Publications, Inc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14414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14414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1441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epherd me, O Go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1441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yond my want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1441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yond my fear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1441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rom death into lif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6T20:29:32Z</dcterms:created>
  <dc:creator>Gary Wintergerst</dc:creator>
  <dc:description/>
  <dc:language>en-US</dc:language>
  <cp:lastModifiedBy>Gary Wintergerst</cp:lastModifiedBy>
  <cp:lastPrinted>1995-07-02T14:48:50Z</cp:lastPrinted>
  <dcterms:modified xsi:type="dcterms:W3CDTF">2001-02-07T05:56:33Z</dcterms:modified>
  <cp:revision>19</cp:revision>
  <dc:subject/>
  <dc:title>A Shield About Me</dc:title>
</cp:coreProperties>
</file>